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E0ED-601D-46F0-A17F-D13921412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A091-EE1B-41A0-8E65-9B55751BC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4B989C-83D7-4089-AA7A-FEB067EE7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56ED1C-2990-4561-8160-8C84E7827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4A39B6-82C3-4B65-9982-C14517EF0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9BB240-D570-4409-8644-1CD0667E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802118-E014-4C63-A5F3-F0C6E14E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BF297A-CDFF-4C52-9566-48C10723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EC4DB6-2450-4F2D-80E0-89FEAA310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40CD00-CA11-45C3-8CB7-CC25D3407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C18CA7-421B-4AE6-BEFC-8C75E3EB1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FD3EF6-FBA4-4E41-8F75-4F877C567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788C-775F-4AFC-8C11-583DA80C4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2CFD7D-F986-4861-B6C0-2E00BB24D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E43315-1234-4937-ACC0-F5291B0BF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EDEE0C-516D-493C-A58C-1A769EAA6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03054E-264D-4FAC-AAB9-3A1E152E4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E2FB87-8821-4138-A72D-B790684B8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B56A74-DFAE-44C2-BD76-839E4756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7DE406-7D6D-4A6E-B2B1-542675E3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DB87C9-D215-4F99-9989-FB4401ED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E83B6F-407A-467E-AFCC-6C4EACDE7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F29C11-1062-4B0C-841E-E167CA156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1CB7-8A15-4162-82C2-CA1B345C8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A1D151-DD97-4FD5-97EA-5DE92517B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97EAA5-FFFB-466C-A499-1E85231B1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2B089C-7667-4CA2-A7A3-677C8056E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5DD32C-1909-483E-9465-D5F8DF1BF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A901F1-B586-4CFD-A676-BEBEF291B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B467DE-6814-425E-9B80-B06721BF6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FCC2A3-108A-4274-B423-5D2945013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EAC5AF-919F-4EC0-A7D0-2ADFB743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2F0627-ECA9-4219-B143-62D5BD4F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6E5CC2-27A0-4480-AC1C-673D62FB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AAC43-D53C-4CDB-BD8F-CD213DD62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AA367D-CEBE-41B1-A284-8761877EA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A931E3-1330-4F24-823F-3C585551D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A77AF8-2D2A-49E3-86C6-444EA2577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CCF7D7-4339-4189-A604-5A07EDB28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4D2E08-451C-4FED-AAFB-01ADE4FE0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09247B-B2DE-44E1-9CF4-766561B4E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F4F31F-65AE-43BD-A748-F3EBF7CDC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190215-97FD-4667-809B-5009F5106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3DBA75-F5DB-4CB9-A722-22AF76A41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5D1FD6-8420-4143-A634-C4F2FFB4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BF8DF-BBF5-46C8-8DE0-409771D45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7A2D79-346A-4CA9-8293-A9C4A264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8DDD9B-FEB0-42C2-A8B1-19FA00F6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E545FE-74BE-489B-AE25-2F1A6A548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CB593A-009C-4371-83C9-7AE77DC95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A51F69-06C8-4766-80BD-7A8FFBE0E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4BADA7-2568-44D7-960A-294DB8B76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D1A161-E949-4A00-AB89-8B55CAA23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71709B-CADB-497A-A22A-D6C9FDC2F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A0D677-4E65-44F8-96F4-3CA4CC184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528D0C-0D26-4094-A7CF-FFD6F1317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0EC96-4B8B-43C6-9AC1-305BC549F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13F6B9-7889-4C78-AA68-1DAD94889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82EE72-FF5A-4FB2-A652-2FF0061D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2A2577-6D14-4E7C-A5E7-977AA3AC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2FA67F-CE4C-4FDF-8E9B-1E4C2B5D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E19EEF-2887-433B-B332-7EFA6D36B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51D6AA-6944-43AE-B739-5B9773F5E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47D1E0-359C-4D3E-B1D7-C0E64D1F1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0BAF72-3206-43E9-A638-1ADFAA167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356177-EFE6-4BE2-A7F5-AEEB0F3DF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C667BF-B4FB-4686-9BC3-186435823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FDA1E-632E-43E3-A33E-594FC0A46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AAA34C-5EB0-47D8-BB3C-E01CD83AC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541B82-DBBD-40E9-87C5-DCC0BA6F3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236A21-3D2E-46F4-99F0-E0E152F3B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39B701-C842-48A4-B756-481DAB8D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17CA14-4191-49F8-A860-74C432BA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472FFA-8EB5-4024-B6C0-82EF5A01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3A901C-26BE-49CB-95E4-09D19BC42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2C0B0D-F1A1-4F18-920E-80BBD1B32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0DC1F9-63BC-4391-8FE4-91847C6AB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E7379F-F637-49F8-B721-916119AC0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89529-C5FF-40DF-8494-FF90DDDB3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14D53B-DE23-4380-84A8-CE90C0B28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689663-AA6B-4BB5-996E-FF384A583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889156-934A-4D98-BC63-0FE416E62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74313C-FF9F-4CE6-9086-A224DAE6D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E7AF56-8892-428B-A1F0-158D3E6CE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EB69BE-18D3-41DE-97E9-791C33FB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CDEA2E-A0A4-457C-BF1E-16487843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DFBB04-2AD5-4558-85CA-4C3894C6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A2193E-CFAE-4D1C-A7D3-0A98054AB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9165A6-6FFC-48AF-97F0-DDEFD97A5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A50F3-2E4F-482A-A8FF-ED17239A2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6452D1-23E6-4BF9-A8A3-A0FF2D7B9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47986E-E993-44B6-9F86-0F588EA52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0CDCBF-05C5-4C31-90F3-1829A86DC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D3D648-A1C5-4232-90DF-C6822A6E2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C244B7-D8D7-4093-B457-0023F6BE3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18A7EC-664B-417F-9B5E-9C7223627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096246-38EB-4705-834A-5BA0C6149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AF8870-1C70-4C5B-B94E-C19241B0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D00BA4-97EC-4B65-986E-D30D03DF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03E49E-805F-4399-9779-529C005C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8019A-2CF3-44C8-A9F8-26EF820B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E4C781-E84B-4534-8BA7-B5F3902D6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AA052B-238B-4EC1-BB30-2A401C1FB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BD12C2-7F70-4DCE-A966-3754E0194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83BEBF-57B0-4848-B654-82262D8F1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A76400-0DB3-47E8-B678-2A6F55BD2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1EF410-C9A0-4482-95B5-DEA8EFE26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0BB076-A272-4D3E-84D4-380D2D3E2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369802-88CD-43EF-B09D-897D1AE60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8E03D6-B124-490F-8FEF-149D13700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9DABB9-AF50-4E5C-84BE-F6F8571F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F056-19AB-43EE-B526-15A854203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FD901-707E-4B21-8377-E9F032A3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2F097D-9DDC-4DC8-B593-13C91C6B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CFCA25-5450-441B-8F0B-12708B3D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0DDD78-3C1D-4DED-8CB8-38D1C6938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B0F675-816D-4E0D-BF68-CD3752CD1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FE970E-8208-4E5F-ADE8-4D7FBF6DC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EE1AE4-41B2-4D50-85C3-3740A6C56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F8FDB3-DC86-4087-9F31-D041DB9FF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A42CC8-7565-4F9F-8DBC-A3547852A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4DD193-DBDE-4BE2-85CA-F08FFCFB0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286CBD-71CE-443B-9F03-084E07571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40222-E450-499E-8810-250D7AAA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2E0581-B2A2-4F20-9F45-22F893905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C2EA47-E09B-4C42-A997-69F80C71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9ED69B-38FD-45D0-AABA-22B77626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B05B64-0B9C-4510-BC8D-4D2FF1B7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74DA3C-964A-4803-9D17-4704B8EA6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08FB0C-3364-46E1-9008-8F8CF6169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01CF1D-4B60-41D4-BDE0-263349830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B5A4F8-10F5-4BC2-9163-5EFA9B84F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0BD65E-ED49-4809-88A3-3CE866084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410BC7-62EC-4C66-AF19-907FB53C6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4AD94-64F2-4FF3-A32D-9775847B3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FECA88-DFFA-4DA2-AE3B-0ABA5D076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6BA69F-374A-42B7-AE32-F92675A7A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1FEBF7-D67E-4590-B745-36B83D92F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1DE34D-D904-48CC-B348-3BD3D693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5FA788-A696-40F2-92A4-8F7A1477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A1C2AA-8CF2-4899-82EC-6A276334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FFE64D-C328-4204-91A3-C1D1F997D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6D047C-CB22-44D1-B521-AE8E03BD4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19AE9C-EB1E-4580-9BA9-6FED7F9FC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B0B8D0-141E-444D-A7CC-39D04BAD4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5A231-993F-4CDD-9200-A22A3CF69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620EB8-34EA-4B89-A0A4-D8FA25811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B5EDC0-6D29-46CE-ADA9-4F1D11531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83BCF1-05CD-45E5-803E-F7BB950CB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D33FC7-0C0E-4357-835C-9D401F838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44A17C-4E1A-40CE-AB7C-DCC79DD55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9E610F-643E-4E35-8DCD-CED1FD8E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AE0DAD-BFC8-4B27-BC26-ADA0CF9E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EE1921-2B38-4438-906E-CB3A52DC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2539E4-BB78-4B30-864F-CE0E67C5C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C6D520-64FB-47A2-A666-42ED1BF9F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69171-FA29-4392-98B7-4C0B84AFD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3CEA48-A0EF-447F-BFF3-F0006CCCB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39FBA0-DFBA-49E0-A5AB-56E13F2B1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2D6F12-0B57-4E84-864A-96009163A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B8E6B7-6FF7-4639-AA52-3D8B43325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F68A34-8991-404E-8C36-24D242349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84DC87-76BA-4654-BAF0-06DEEE800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AAD729-ABC3-4835-81EE-C6EADE0FE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4803C5-046B-485C-A88D-5A6D1CFF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B0DC02-F9D1-4197-8574-76229199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353BCE-6D0C-4B7C-816E-7316B6B1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150CC-C506-4A2B-9C27-3A9519D7C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4DAABA-F725-4CEF-8DBB-6E7F44AB0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56568B-6D4C-437F-BF31-0E987D2B2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553C94-C3E6-4531-85FF-562D681AC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4E684-AFDF-40D6-90FD-CAAA436C8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664ED-06AB-4CA1-BF88-FA02517C5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015DA-263B-4519-9789-8B1548740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A09D1-4102-4B91-96FA-A98DE70A1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4F42-5997-4C20-80BD-F9953EBFD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3D151-F02F-45D1-AE94-9786C56EC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64A48-93C8-4A5E-90F4-950C04C4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3343F-5263-4890-92F3-066FA757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20DB6-C622-474C-8816-FA826951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489E0-5293-44C2-A1A7-9299B8981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354C0-A5D5-4CE0-9345-CBCE17182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5E6BC-3E7D-4C06-AC77-74479BE45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4BB62-6247-465E-AA39-2961ABA0D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D0C84-82B7-4425-9E75-87B7653B2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A89CE-82F5-403B-906E-121AB21F8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D3B3-7891-45B9-AEF4-0C8C9026E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EACAD-BE68-4D11-86B4-333FFC94E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E35AD-6F45-4D0C-A95C-8ED15766D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C74B7-A9A7-4534-B4A8-774EAC99A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1CEAE-F1CD-4704-9260-2C5F9A01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FBF7C-66A9-4BAE-A0E9-437E4AF1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AFA7E-F8E1-4DAA-A2A0-C4C92A46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7B85D-BA3F-4975-AD5A-2F0DC0874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15DEE-D0A8-4114-A548-E712AA9F3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C45ED-B67F-4858-A9C4-37A3AE29F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12F9C-94FF-4690-B973-0C69C3F8C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8ECF-1169-4B5C-AB17-3316D86CD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B4CE6-69E5-462E-A158-1339E01D2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9557A-CCC1-4EBC-9D96-D71D544D7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F02B5-5A44-4DCF-A442-2DFE0A44B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64311-AD1F-423B-929A-AF2126BB2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41EA2-BEB8-4A27-9B2A-BE8CB4705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C029F-1B1D-4789-A927-F0C974CB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4CFB1D-4439-4550-82DC-2BE255BE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496F4-C66D-465F-A785-CF5E79A4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CB739-888C-4C3D-9795-E1012F6FA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F180C-6B77-450E-ADFB-EA195994A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4EA5-2579-41F8-AFD1-9279350AF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A5388-F3E0-421F-881C-DFA6D907B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C5AAC-5C0B-4E42-AFE0-A06BF542A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8CB83-A13B-4A2C-A201-5FCB3A130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F5ACCF-389C-498D-B755-3C6F59FF7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49D8B-A0D6-498D-AFBC-ECEBE60FC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10F34-8A1E-4879-9B12-5AB9F3F58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51E7A9-2CE6-42F2-AF84-D1EAE5CB7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EC552-6AE6-43FE-9859-5D7609C8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BD886-EF0B-4CC6-8781-6F5E2040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B5C7A4-EB72-49A9-9E18-F67A0713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AD2B-E24E-45E3-90E8-9CDB3AF9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AA9B0-B33E-4BD1-B98F-0D6DE6E38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165AF-E0CB-466C-A065-ECA830F8D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977A9-E266-4272-BC97-6DCCB3DA0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0EA6B8-BC80-4577-86C1-3808BA74E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B68FD7-8882-420B-88BC-06696967D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ED2401-F8AC-4AD4-A20D-FBCB06B40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63090-D5BD-4A0D-909D-EF63DF57B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F9E41E-2552-4893-88F4-5AF449BC2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B18069-BFF4-4C0E-8CF6-65F2A4A10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C42BD3-56BF-447E-BD72-51E419B6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FB4C-848B-4C62-A409-1B108982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FB402-AB81-4312-936A-F275D906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63E410-917C-4C75-9767-C0F2AA24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D2C233-CA93-43C7-BC30-D6D6B3395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4A119-9146-41AD-9A2D-CE82AB877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BCFC0C-6F0F-4A99-9FAF-341235BD6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1FDA9B-4024-44A5-82B7-3F7355909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85E529-15B6-4B0A-9B50-1AA96DEC8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A49986-C645-4335-828A-ED173D21D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766452-96EF-4E17-8CD1-B97247F95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B928AC-E7EC-4800-8468-4AA973A6D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1FCA-97AE-4234-BD82-2A67B0B8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CF0352-70E1-43F5-9DF1-2C197FAF3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7B65D3-4CF0-4228-B388-33EADE64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B82C58-DBCE-4F34-B71D-9309801B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747888-9387-430A-9B69-DC3674EB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6EA80D-1E17-4A53-8DA5-191FE0583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7DA30B-200E-46A8-B2EF-C58559740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813CA8-5B2D-41CC-988F-E08C29316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A354B0-CB81-4CE7-83E2-097FFB3B6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307D21-3A5F-48C0-AF90-17F47A52B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CFC7AC-DD8F-4F05-BDA7-AA8C5CBF7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387BF-4500-43A6-A943-83D57DC90E7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0E57B-7864-49A6-A9B7-D0859E0AFD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D8B34-E879-49DF-A2B2-72D6A8640C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1BD2F-DBE1-4185-BDEF-4B8B56FB6B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D9C6C-0439-42F6-81A6-E043877DFD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D3EEC-0FB4-475E-A12C-22601338D3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F944D-C5CD-4616-ABE7-35F4BC66FA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42A64-B1D8-4DD2-A108-DB1A0B08DE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4B0C4-8898-46C0-9EC2-33A23B808A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BF2D2-4258-4B18-831D-C7408FFBDF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EA063-27C6-4501-9425-8211C30FFF1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76433-8A02-4A28-B523-D029D8F644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AC99D-69A8-44FE-AB6E-5CA78949D3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E3E50-C225-4399-9A7A-1D1A1266E4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3336E-8C0A-4F4F-84BE-8BD0210DDA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C2E85-10C8-43E7-AC9D-47C86C8414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35C58-1F79-407D-B274-729A6933F9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001BB-E886-4022-853F-242BD86776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BF50F-513B-44DC-B2DD-2FF08F0143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5E008-329F-410A-A3B6-69C1FFF693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48A8F-E125-43AA-BF00-472A1E3967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1A7AD-CAEA-45CF-A251-CDD6E60D16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46926-EE69-4301-B0DB-3FA203E9F3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E9D95-E9D1-468C-85DF-4205606CA9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02216-6F2D-464D-8F9E-F4931C18A3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062C7-A840-4DAD-8B84-ECB981104E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03E6B-D7DD-41DA-A299-963BD4C6ED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1363A-2BE8-4856-908A-A6BB7A6834E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95C47-8E95-4590-959D-EC13B21963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9FD07-0BF5-479B-88E1-DE4DFE9547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567EF-8BFE-453E-A45F-8009A68985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EBE09-7D58-492C-9703-D2991F343F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1D706-5A98-4B93-A8ED-42782097F7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4F014-89EC-4E11-9D00-D3812B509C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E8D7C-C71A-4AFA-AE36-A597524F93B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A2097-E06B-44DA-820A-9BBC8CEB6C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B8DC5-38F8-4F12-9119-56871DC975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57EAC-9C05-4FA9-8BD5-DC49651620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743D1-6D6C-4667-92E3-CBB417030A4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4F9E8-4018-4A49-814D-C7C9BF4D51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590920" y="3171960"/>
            <a:ext cx="3962160" cy="51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162000" y="1033560"/>
            <a:ext cx="8820000" cy="479088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1273320" y="177336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3419640" y="177336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5565600" y="181620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7567560" y="177336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1258920" y="220500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3405240" y="220500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5551560" y="224784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7553160" y="220500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10"/>
          <a:stretch/>
        </p:blipFill>
        <p:spPr>
          <a:xfrm>
            <a:off x="1258920" y="252108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1"/>
          <a:stretch/>
        </p:blipFill>
        <p:spPr>
          <a:xfrm>
            <a:off x="3405240" y="252108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12"/>
          <a:stretch/>
        </p:blipFill>
        <p:spPr>
          <a:xfrm>
            <a:off x="5551560" y="256392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13"/>
          <a:stretch/>
        </p:blipFill>
        <p:spPr>
          <a:xfrm>
            <a:off x="7553160" y="252108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14"/>
          <a:stretch/>
        </p:blipFill>
        <p:spPr>
          <a:xfrm>
            <a:off x="468360" y="3645000"/>
            <a:ext cx="3456000" cy="31896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15"/>
          <a:stretch/>
        </p:blipFill>
        <p:spPr>
          <a:xfrm>
            <a:off x="468360" y="4005360"/>
            <a:ext cx="3456000" cy="31896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16"/>
          <a:stretch/>
        </p:blipFill>
        <p:spPr>
          <a:xfrm>
            <a:off x="468360" y="5157720"/>
            <a:ext cx="3456000" cy="3193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17"/>
          <a:stretch/>
        </p:blipFill>
        <p:spPr>
          <a:xfrm>
            <a:off x="900000" y="5516640"/>
            <a:ext cx="3456000" cy="31896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18"/>
          <a:stretch/>
        </p:blipFill>
        <p:spPr>
          <a:xfrm>
            <a:off x="4788000" y="5157720"/>
            <a:ext cx="3456000" cy="31932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19"/>
          <a:stretch/>
        </p:blipFill>
        <p:spPr>
          <a:xfrm>
            <a:off x="5219640" y="5516640"/>
            <a:ext cx="345600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图片 59410" descr=""/>
          <p:cNvPicPr/>
          <p:nvPr/>
        </p:nvPicPr>
        <p:blipFill>
          <a:blip r:embed="rId1"/>
          <a:stretch/>
        </p:blipFill>
        <p:spPr>
          <a:xfrm>
            <a:off x="533520" y="1428840"/>
            <a:ext cx="8076960" cy="400032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"/>
          <a:stretch/>
        </p:blipFill>
        <p:spPr>
          <a:xfrm>
            <a:off x="1116000" y="2276640"/>
            <a:ext cx="2951280" cy="31896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3"/>
          <a:stretch/>
        </p:blipFill>
        <p:spPr>
          <a:xfrm>
            <a:off x="1187280" y="2651040"/>
            <a:ext cx="2951280" cy="31932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4"/>
          <a:stretch/>
        </p:blipFill>
        <p:spPr>
          <a:xfrm>
            <a:off x="1044720" y="4048200"/>
            <a:ext cx="2950920" cy="31896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5"/>
          <a:stretch/>
        </p:blipFill>
        <p:spPr>
          <a:xfrm>
            <a:off x="1116000" y="4422600"/>
            <a:ext cx="2951280" cy="3193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6"/>
          <a:stretch/>
        </p:blipFill>
        <p:spPr>
          <a:xfrm>
            <a:off x="5292720" y="3946680"/>
            <a:ext cx="2951280" cy="31896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7"/>
          <a:stretch/>
        </p:blipFill>
        <p:spPr>
          <a:xfrm>
            <a:off x="5364000" y="4321080"/>
            <a:ext cx="2951280" cy="31932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8"/>
          <a:stretch/>
        </p:blipFill>
        <p:spPr>
          <a:xfrm>
            <a:off x="971640" y="5143680"/>
            <a:ext cx="29509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图片 58373" descr=""/>
          <p:cNvPicPr/>
          <p:nvPr/>
        </p:nvPicPr>
        <p:blipFill>
          <a:blip r:embed="rId1"/>
          <a:stretch/>
        </p:blipFill>
        <p:spPr>
          <a:xfrm>
            <a:off x="138240" y="1986120"/>
            <a:ext cx="8867520" cy="288576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2"/>
          <a:stretch/>
        </p:blipFill>
        <p:spPr>
          <a:xfrm>
            <a:off x="468360" y="3025800"/>
            <a:ext cx="3527280" cy="31896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3"/>
          <a:stretch/>
        </p:blipFill>
        <p:spPr>
          <a:xfrm>
            <a:off x="468360" y="3400560"/>
            <a:ext cx="3527280" cy="31896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4"/>
          <a:stretch/>
        </p:blipFill>
        <p:spPr>
          <a:xfrm>
            <a:off x="1403280" y="452448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5"/>
          <a:stretch/>
        </p:blipFill>
        <p:spPr>
          <a:xfrm>
            <a:off x="2268360" y="453852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6"/>
          <a:stretch/>
        </p:blipFill>
        <p:spPr>
          <a:xfrm>
            <a:off x="3132000" y="455148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7"/>
          <a:stretch/>
        </p:blipFill>
        <p:spPr>
          <a:xfrm>
            <a:off x="5321160" y="453852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8"/>
          <a:stretch/>
        </p:blipFill>
        <p:spPr>
          <a:xfrm>
            <a:off x="6156360" y="453852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9"/>
          <a:stretch/>
        </p:blipFill>
        <p:spPr>
          <a:xfrm>
            <a:off x="7048440" y="453708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10"/>
          <a:stretch/>
        </p:blipFill>
        <p:spPr>
          <a:xfrm>
            <a:off x="7899480" y="4510080"/>
            <a:ext cx="35856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9T08:10:57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